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612-0E0B-4661-9BEA-F47CC27E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57C9-F5CD-4755-8BE9-A551470B5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B78A-2C3D-4A2E-B437-445408CD4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Identify criteria for judging whether behavior is psychologically disor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C48C-72B2-4222-92B1-48888F8C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503F-0F4D-4F8E-85F9-ADA98867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Contrast the medical model of psychological disorders with the biopsychosocial perspective on disordere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095B-0537-4708-B8FC-BC1BA2639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F8E5-99EF-472C-94C9-AEC56CB26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F49-6974-4BC5-8F7F-C417F9114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533D-8F2A-478D-8687-9C2356127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goals and content of the DSM-I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1F27-2E1C-45A9-A6AF-62F224885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B415-33B9-4C2A-8DDF-705DBF478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9D37-E374-427F-97E0-31BA6259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1415-A66A-4F19-BEFD-403387FB1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09E-D682-4C61-9C02-D3A681543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7152-610E-4662-A9FF-7ECA6C5D0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potential dangers and benefits of using diagnostic lab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2314-A3C3-4262-8D3B-664C80BC2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22C2-6332-4EC8-8871-056B25877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A6C7-5A70-4D7C-8109-6C3CD053F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fin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xiety disord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explain how this condition differs from normal feelings of stress, tension, or unea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3575-1B9B-49E4-B136-35164ABBF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Contrast the symptoms of generalized anxiety disorder and panic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4C97-4771-49C3-A4EE-37DAF0838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19AD-7420-4D07-89BB-BD47950C3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Explain how a phobia differs from fears we all exper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F126-7A40-4E9B-9024-3AF94545F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2FDE-BC84-4EC7-B886-F3791F8AE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8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ymptoms of obsessive-compulsive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BDBE-8C68-42AA-94D0-059D32DD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AB32-E5F9-4690-8E30-9478FCD48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1FC7-E5D3-41D4-ACC8-9801EA50D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ymptoms of post-traumatic stress disorder, and discuss survivor resil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ADC3-AAB3-45BE-B754-E627BBC33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65D7-9E63-42FF-926C-69CA1BBB9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iscuss the contributions of the learning and biological perspectives to our understanding of the development of anxiety dis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2E00-BBE0-4258-81C2-F966557E5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206-7D6A-475E-9894-C75B8193E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9EEC-B048-44FC-BF7F-D0ECE70BE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62A6-0C21-4C33-8507-9068C1FBB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2EE3-B190-4410-8F41-17A360759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IVE 1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| Describe the symptoms of dissociative disorders, and explain why some critics are skeptical about dissociative identity dis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6704-A2A1-486B-9A36-A65D859E5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7F61-EB16-4C51-98F7-3CDCDCC90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4F6-D81D-4316-9A80-64FD35A42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127D-B690-408F-AE84-B9BA3529F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4A3-7A0F-479E-B660-BE21E2410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41280" y="657360"/>
            <a:ext cx="4378320" cy="32842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160520"/>
            <a:ext cx="548640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03B9-4A22-4249-8004-137AAF03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0CE6-BE6A-443F-AFF3-086EC1049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319960"/>
            <a:ext cx="2971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B646-C344-46FC-BE1D-116342FBE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8F0-D294-4606-BCC0-398F7378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DAC-8CE7-4A54-A6ED-3B359744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92D-3487-41B8-9592-155D606A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B35-E59E-4335-827D-0B6E88FB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EFA-EB6C-45B0-A19D-E18DEFB8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FB8-6F4F-4068-A49F-93E3BF23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DEE-5EE3-49FA-992A-09DE1674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587-1B3D-4D35-9800-55E14B6C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059-62FE-4E48-8C82-38A474AA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3D2-A267-4358-863C-B489EFD9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C59-1CF0-4552-BDDB-541A5AE9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9F5-0DAF-431A-9FBE-8FBF430B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DDD-08B0-4079-9EFB-DA9991972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D15A-BE52-4C65-B3DD-6F3B9E55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8th Edition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_oval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2DA5-CD9A-4329-8082-4F2F1514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fin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tal health workers view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ological disorder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s persistently harmful thoughts, feelings, and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71400" y="3505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behavior is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deviant, distressful, and dysfunctional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psychiatrists and psychologists label it as disordered (Comer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41A0-92A0-4E66-A4E7-E2C7FFE79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viant, Distressful &amp; Dysfunc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eviant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behavior (going naked) in one culture may be considered normal, while in others it may lead to arr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Deviant behavior must accompany </a:t>
            </a: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istress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If a behavior is </a:t>
            </a: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ysfunctional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it is clearly a dis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yersPsy8e_16UN01"/>
          <p:cNvPicPr/>
          <p:nvPr/>
        </p:nvPicPr>
        <p:blipFill>
          <a:blip r:embed="rId1"/>
          <a:stretch/>
        </p:blipFill>
        <p:spPr>
          <a:xfrm>
            <a:off x="4876920" y="1582560"/>
            <a:ext cx="380988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013360" y="4765680"/>
            <a:ext cx="344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n the Wodaabe tribe men wear costumes to attract women. In Western society this would be considered ab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 rot="5400000">
            <a:off x="8317080" y="414936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ol Beck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B500-2F81-4E44-9204-1853ECCBB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1600" y="1676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ncient Treatments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f psychological disorders include trephination, exorcism, being caged like animals, being beaten, burned, castrated, mutilated, or transfused with animal’s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yersPsy8e_16UN03"/>
          <p:cNvPicPr/>
          <p:nvPr/>
        </p:nvPicPr>
        <p:blipFill>
          <a:blip r:embed="rId1"/>
          <a:stretch/>
        </p:blipFill>
        <p:spPr>
          <a:xfrm>
            <a:off x="3513240" y="3505320"/>
            <a:ext cx="2111400" cy="2666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79400" y="6248520"/>
            <a:ext cx="75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ephination (boring holes in the skull to remove evil fo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 rot="5400000">
            <a:off x="5361840" y="452484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 W. Ve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9F12-0762-4965-AED0-28498924F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d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ilippe Pinel (1745-1826) from France, insisted that madness was not due to demonic possession, but an ailment of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yersPsy8e_16UN04"/>
          <p:cNvPicPr/>
          <p:nvPr/>
        </p:nvPicPr>
        <p:blipFill>
          <a:blip r:embed="rId1"/>
          <a:stretch/>
        </p:blipFill>
        <p:spPr>
          <a:xfrm>
            <a:off x="2571840" y="3048120"/>
            <a:ext cx="3976560" cy="3112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015000" y="6248520"/>
            <a:ext cx="30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ance in the madho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 rot="5400000">
            <a:off x="5131080" y="4648320"/>
            <a:ext cx="3029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eorge Wesley Bellows, 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Dancer in a Madhous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1907. © 1997 The Art Institute of Chicag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F6E3-1934-4FAD-A3FF-D9E4C01E0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dic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physicians discovered that syphilis led to mental disorders, they started using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medical model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o review the physical causes of these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61920" y="3429000"/>
            <a:ext cx="717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Etiolog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Cause and development of the dis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Diagnosi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dentifying (symptoms) and distinguishing one disease from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reatment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reating a disorder in a psychiatric hos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ognosi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Forecast about the dis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93C-A184-45CE-98AC-D2D5335E7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opsychosoci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MyersPsy8e_fig"/>
          <p:cNvPicPr/>
          <p:nvPr/>
        </p:nvPicPr>
        <p:blipFill>
          <a:blip r:embed="rId1"/>
          <a:stretch/>
        </p:blipFill>
        <p:spPr>
          <a:xfrm>
            <a:off x="1819440" y="3152880"/>
            <a:ext cx="5473440" cy="3547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276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sumes that biological, socio-cultural, and psychological factors combine and interact to produce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EBC2-6A98-4E96-8266-9264E295D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assify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American Psychiatric Association rendered a Diagnostic and Statistical Manual of Mental Disorders (DSM) to describe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7140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ost recent edition, DSM-IV-TR (Text Revision, 2000), describes 400 psychological disorders compared to 60 in the 195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111A-5C65-45AB-8A6F-61FD01DB7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2200320" y="4367160"/>
            <a:ext cx="641016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re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Psychosocial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Environmental Problem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school or housing issues) also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762120" y="4367160"/>
            <a:ext cx="137160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200320" y="5264280"/>
            <a:ext cx="6410160" cy="9842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at is the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Global Assessmen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the person’s 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62120" y="5264280"/>
            <a:ext cx="1371600" cy="9842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200320" y="3422520"/>
            <a:ext cx="6410160" cy="86832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General Medical Condi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diabetes, hypertension or arthritis etc) also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762120" y="3422520"/>
            <a:ext cx="1371600" cy="86832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200320" y="2514600"/>
            <a:ext cx="641016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Mental Retarda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62120" y="2514600"/>
            <a:ext cx="137160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200320" y="1617840"/>
            <a:ext cx="6410160" cy="8204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Clinical Syndrom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cognitive, anxiety, mood disorders [16 syndromes])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62120" y="1617840"/>
            <a:ext cx="1371600" cy="8204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519120" y="1566720"/>
            <a:ext cx="168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519120" y="5881680"/>
            <a:ext cx="168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519120" y="15667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8610480" y="15667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0"/>
          <p:cNvSpPr/>
          <p:nvPr/>
        </p:nvSpPr>
        <p:spPr>
          <a:xfrm>
            <a:off x="2200320" y="1566720"/>
            <a:ext cx="64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1"/>
          <p:cNvSpPr/>
          <p:nvPr/>
        </p:nvSpPr>
        <p:spPr>
          <a:xfrm>
            <a:off x="519120" y="23875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>
            <a:off x="8610480" y="23875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5"/>
          <p:cNvSpPr/>
          <p:nvPr/>
        </p:nvSpPr>
        <p:spPr>
          <a:xfrm>
            <a:off x="519120" y="3208320"/>
            <a:ext cx="0" cy="86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7"/>
          <p:cNvSpPr/>
          <p:nvPr/>
        </p:nvSpPr>
        <p:spPr>
          <a:xfrm>
            <a:off x="8610480" y="3208320"/>
            <a:ext cx="0" cy="86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9"/>
          <p:cNvSpPr/>
          <p:nvPr/>
        </p:nvSpPr>
        <p:spPr>
          <a:xfrm>
            <a:off x="519120" y="40766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1"/>
          <p:cNvSpPr/>
          <p:nvPr/>
        </p:nvSpPr>
        <p:spPr>
          <a:xfrm>
            <a:off x="8610480" y="40766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3"/>
          <p:cNvSpPr/>
          <p:nvPr/>
        </p:nvSpPr>
        <p:spPr>
          <a:xfrm>
            <a:off x="519120" y="4897440"/>
            <a:ext cx="0" cy="98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55"/>
          <p:cNvSpPr/>
          <p:nvPr/>
        </p:nvSpPr>
        <p:spPr>
          <a:xfrm>
            <a:off x="8610480" y="4897440"/>
            <a:ext cx="0" cy="98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7"/>
          <p:cNvSpPr/>
          <p:nvPr/>
        </p:nvSpPr>
        <p:spPr>
          <a:xfrm>
            <a:off x="2200320" y="5881680"/>
            <a:ext cx="64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FAE3-93E3-421C-BEB4-73A778DB0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MyersPsy8e_Table"/>
          <p:cNvPicPr/>
          <p:nvPr/>
        </p:nvPicPr>
        <p:blipFill>
          <a:blip r:embed="rId1"/>
          <a:srcRect l="0" t="20345" r="0" b="0"/>
          <a:stretch/>
        </p:blipFill>
        <p:spPr>
          <a:xfrm>
            <a:off x="671400" y="1986120"/>
            <a:ext cx="7772400" cy="4338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1886040" y="1447920"/>
            <a:ext cx="5348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te 16 syndromes in Ax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29C8-E2A6-4790-B32B-67032A2C0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MyersPsy8e_Table"/>
          <p:cNvPicPr/>
          <p:nvPr/>
        </p:nvPicPr>
        <p:blipFill>
          <a:blip r:embed="rId1"/>
          <a:stretch/>
        </p:blipFill>
        <p:spPr>
          <a:xfrm>
            <a:off x="671400" y="2133720"/>
            <a:ext cx="7769160" cy="3728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1009800" y="1447920"/>
            <a:ext cx="710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te Global Assessment for Axis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D3B3-556C-466D-8D2D-4BEF2F4F1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222408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MyersPsy8e_CO16"/>
          <p:cNvPicPr/>
          <p:nvPr/>
        </p:nvPicPr>
        <p:blipFill>
          <a:blip r:embed="rId1"/>
          <a:stretch/>
        </p:blipFill>
        <p:spPr>
          <a:xfrm>
            <a:off x="422280" y="380880"/>
            <a:ext cx="13208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80F6-E818-4814-9DC7-5C6285694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oals of D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60020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cribe (400) dis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termine how prevalent the disorder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71400" y="28954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orders outlined by DSM-IV are reliable. Therefore, diagnoses by different professionals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71400" y="468648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thers criticize DSM-IV for “putting any kind of behavior within the compass of psychiatr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00BB-B490-4D8A-B302-76C6D8AEE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 of the DSM-IV argue that labels may stigmatize individu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MyersPsy8e_16UN08"/>
          <p:cNvPicPr/>
          <p:nvPr/>
        </p:nvPicPr>
        <p:blipFill>
          <a:blip r:embed="rId1"/>
          <a:stretch/>
        </p:blipFill>
        <p:spPr>
          <a:xfrm>
            <a:off x="2305080" y="2743200"/>
            <a:ext cx="4495680" cy="3549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526120" y="628488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sylum baseball team (labe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 rot="5400000">
            <a:off x="5399280" y="467064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izabeth Eckert, Middletown, NY. From L. Gamwell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. Tomes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adness in America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95. Cornell University Pres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F31E-FC83-46C1-84EB-CBF5A891B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bels may be helpful for healthcare professionals when communicating with one another and establishing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6C91-C452-430F-9293-04F11A727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Insanity” labels raise moral and ethical questions about how society should treat people who have disorders and have committed cr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MyersPsy8e_16UN10"/>
          <p:cNvPicPr/>
          <p:nvPr/>
        </p:nvPicPr>
        <p:blipFill>
          <a:blip r:embed="rId1"/>
          <a:srcRect l="0" t="0" r="0" b="35795"/>
          <a:stretch/>
        </p:blipFill>
        <p:spPr>
          <a:xfrm>
            <a:off x="5029200" y="1600200"/>
            <a:ext cx="3675240" cy="4371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5591520" y="5972040"/>
            <a:ext cx="2632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odore Kaczyn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Unabomb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5400000">
            <a:off x="8004960" y="5029200"/>
            <a:ext cx="164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aine Thompson/ AP Ph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7697-F834-4D7E-9120-8D05E7EC7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xie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s of excessive apprehension and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600200" y="297180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nic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bsessive-compulsiv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F630-B443-4187-A420-9B09C579A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ized Anxiety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4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istent and uncontrollable tenseness and apprehen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71400" y="3581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utonomic arou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71400" y="4114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ability to identify or avoid the cause of certain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559320" y="1866960"/>
            <a:ext cx="19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0C82-E7B7-41AF-9EA1-38AA474D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anic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14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inute-long episodes of intense dread which may include feelings of terror, chest pains, choking, or other frightening sens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71400" y="44956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xiety is a component of both disorders. It occurs more in the panic disorder, making people avoid situations that caus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3559320" y="1866960"/>
            <a:ext cx="19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5844-22A6-4D91-84EF-81420238C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hob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160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rked by a persistent and irrational fear of an object or situation that disrupts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yersPsy8e_fig"/>
          <p:cNvPicPr/>
          <p:nvPr/>
        </p:nvPicPr>
        <p:blipFill>
          <a:blip r:embed="rId1"/>
          <a:stretch/>
        </p:blipFill>
        <p:spPr>
          <a:xfrm>
            <a:off x="595440" y="2971800"/>
            <a:ext cx="79246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17C7-2133-46A6-994C-DF2896F0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Kinds of Pho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46"/>
          <p:cNvSpPr/>
          <p:nvPr/>
        </p:nvSpPr>
        <p:spPr>
          <a:xfrm>
            <a:off x="3933720" y="457200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45"/>
          <p:cNvSpPr/>
          <p:nvPr/>
        </p:nvSpPr>
        <p:spPr>
          <a:xfrm>
            <a:off x="961920" y="457200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em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44"/>
          <p:cNvSpPr/>
          <p:nvPr/>
        </p:nvSpPr>
        <p:spPr>
          <a:xfrm>
            <a:off x="3933720" y="3581280"/>
            <a:ext cx="4295880" cy="83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closed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43"/>
          <p:cNvSpPr/>
          <p:nvPr/>
        </p:nvSpPr>
        <p:spPr>
          <a:xfrm>
            <a:off x="961920" y="3581280"/>
            <a:ext cx="2833920" cy="83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austr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42"/>
          <p:cNvSpPr/>
          <p:nvPr/>
        </p:nvSpPr>
        <p:spPr>
          <a:xfrm>
            <a:off x="3933720" y="259092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h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41"/>
          <p:cNvSpPr/>
          <p:nvPr/>
        </p:nvSpPr>
        <p:spPr>
          <a:xfrm>
            <a:off x="961920" y="259092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r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0"/>
          <p:cNvSpPr/>
          <p:nvPr/>
        </p:nvSpPr>
        <p:spPr>
          <a:xfrm>
            <a:off x="3933720" y="160020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open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39"/>
          <p:cNvSpPr/>
          <p:nvPr/>
        </p:nvSpPr>
        <p:spPr>
          <a:xfrm>
            <a:off x="961920" y="160020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gora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47"/>
          <p:cNvSpPr/>
          <p:nvPr/>
        </p:nvSpPr>
        <p:spPr>
          <a:xfrm>
            <a:off x="671400" y="1981080"/>
            <a:ext cx="2833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1"/>
          <p:cNvSpPr/>
          <p:nvPr/>
        </p:nvSpPr>
        <p:spPr>
          <a:xfrm>
            <a:off x="671400" y="5334120"/>
            <a:ext cx="2833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52"/>
          <p:cNvSpPr/>
          <p:nvPr/>
        </p:nvSpPr>
        <p:spPr>
          <a:xfrm>
            <a:off x="671400" y="19810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54"/>
          <p:cNvSpPr/>
          <p:nvPr/>
        </p:nvSpPr>
        <p:spPr>
          <a:xfrm>
            <a:off x="8458200" y="19810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67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68"/>
          <p:cNvSpPr/>
          <p:nvPr/>
        </p:nvSpPr>
        <p:spPr>
          <a:xfrm>
            <a:off x="671400" y="28195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70"/>
          <p:cNvSpPr/>
          <p:nvPr/>
        </p:nvSpPr>
        <p:spPr>
          <a:xfrm>
            <a:off x="8458200" y="28195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72"/>
          <p:cNvSpPr/>
          <p:nvPr/>
        </p:nvSpPr>
        <p:spPr>
          <a:xfrm>
            <a:off x="671400" y="365760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74"/>
          <p:cNvSpPr/>
          <p:nvPr/>
        </p:nvSpPr>
        <p:spPr>
          <a:xfrm>
            <a:off x="8458200" y="365760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6"/>
          <p:cNvSpPr/>
          <p:nvPr/>
        </p:nvSpPr>
        <p:spPr>
          <a:xfrm>
            <a:off x="671400" y="44956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78"/>
          <p:cNvSpPr/>
          <p:nvPr/>
        </p:nvSpPr>
        <p:spPr>
          <a:xfrm>
            <a:off x="8458200" y="44956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80"/>
          <p:cNvSpPr/>
          <p:nvPr/>
        </p:nvSpPr>
        <p:spPr>
          <a:xfrm>
            <a:off x="3505320" y="533412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3FF-9358-4FDB-89FB-7968DA20A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istence of unwanted thoughts (obsessions) and urges to engage in senseless rituals (compulsions) that cause di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MyersPsy8e_Table"/>
          <p:cNvPicPr/>
          <p:nvPr/>
        </p:nvPicPr>
        <p:blipFill>
          <a:blip r:embed="rId1"/>
          <a:stretch/>
        </p:blipFill>
        <p:spPr>
          <a:xfrm>
            <a:off x="838080" y="3200400"/>
            <a:ext cx="76201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31A4-8470-4135-8FF7-B690C9CDE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erspectives on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fin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assify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97E9-702F-4365-84CA-BEC4F30C3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880" y="1585440"/>
            <a:ext cx="419112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PET scan of the brain of a person with Obsessive-Compulsive Disorder (OCD). High metabolic activity (red) in the frontal lobe areas are involved with directing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" descr="15-3"/>
          <p:cNvPicPr/>
          <p:nvPr/>
        </p:nvPicPr>
        <p:blipFill>
          <a:blip r:embed="rId1"/>
          <a:stretch/>
        </p:blipFill>
        <p:spPr>
          <a:xfrm>
            <a:off x="5014800" y="1585800"/>
            <a:ext cx="3721320" cy="43228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714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rain Im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5345280" y="59245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Brain image of an O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0970-2346-484D-8B9C-B0A2E3728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st-Traumatic Stress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 or more weeks of the following symptoms constitute post-traumatic stress disorder (PTS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09480" y="32767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unting mem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609480" y="3809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ightm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623880" y="4329000"/>
            <a:ext cx="39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cial withdraw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619200" y="4876920"/>
            <a:ext cx="3267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Jumpy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609480" y="5486400"/>
            <a:ext cx="381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leep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6" descr="MyersPsy8e_16UN13 Copy"/>
          <p:cNvPicPr/>
          <p:nvPr/>
        </p:nvPicPr>
        <p:blipFill>
          <a:blip r:embed="rId1"/>
          <a:srcRect l="0" t="10697" r="0" b="0"/>
          <a:stretch/>
        </p:blipFill>
        <p:spPr>
          <a:xfrm>
            <a:off x="4876920" y="3048120"/>
            <a:ext cx="3809880" cy="3114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8"/>
          <p:cNvSpPr/>
          <p:nvPr/>
        </p:nvSpPr>
        <p:spPr>
          <a:xfrm rot="5400000">
            <a:off x="8267760" y="5498280"/>
            <a:ext cx="10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mann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771-82AC-40F6-B85D-36559A63A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esilience to PTS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nly about 10% of women and 20% of men react to traumatic situations and develop PTS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671400" y="3124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ocaust survivors show remarkable resilience against traumatic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85800" y="4572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 major religions of the world suggest that surviving a trauma leads to the growth of an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AA8-53BD-4F8C-9C10-6E309DDC0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laining Anxie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eud suggested that we repress our painful and intolerable ideas, feelings, and thoughts, resulting i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B3A5-2BE7-41E0-8EFF-613E3D2A2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Learning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671400" y="1600200"/>
            <a:ext cx="3900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arning theorists suggest that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ear conditio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leads to anxiety. This anxiety then becomes associated with other objects or events (stimulus generalization) and is reinfor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MyersPsy8e_16UN14"/>
          <p:cNvPicPr/>
          <p:nvPr/>
        </p:nvPicPr>
        <p:blipFill>
          <a:blip r:embed="rId1"/>
          <a:stretch/>
        </p:blipFill>
        <p:spPr>
          <a:xfrm>
            <a:off x="5386320" y="1600200"/>
            <a:ext cx="3057480" cy="457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 rot="5400000">
            <a:off x="7775640" y="526032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 Coletti/ Stock, Bo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5FEA-F50C-43E1-B12D-685F39670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Learning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0948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vestigators believe that fear responses are inculcated throug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observational lear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 Young monkeys develop fear when they watch other monkeys who are afraid of sna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5D6F-01D5-487D-805E-5BE511304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0948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atural Selec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has led our ancestors to learn to fear snakes, spiders, and other animals. Therefore, fear preserves the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609480" y="396252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win studies suggest that our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ay be partly responsible for developing fears and anxiety. Twins are more likely to share   pho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AE07-33B8-458F-95E9-2204AA0D6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57200" y="1600200"/>
            <a:ext cx="3900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, panic attacks, and even OCD are linked wit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ircuits like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anterior cingulate co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7" descr="MyersPsy8e_fig"/>
          <p:cNvPicPr/>
          <p:nvPr/>
        </p:nvPicPr>
        <p:blipFill>
          <a:blip r:embed="rId1"/>
          <a:stretch/>
        </p:blipFill>
        <p:spPr>
          <a:xfrm>
            <a:off x="4800600" y="1625760"/>
            <a:ext cx="4013280" cy="34034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9"/>
          <p:cNvSpPr/>
          <p:nvPr/>
        </p:nvSpPr>
        <p:spPr>
          <a:xfrm>
            <a:off x="5174640" y="5051520"/>
            <a:ext cx="32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nterior Cingulate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f an OCD pat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 rot="5400000">
            <a:off x="7040880" y="3165120"/>
            <a:ext cx="384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. Ursu, V.A. Stenger, M.K. Shear, M.R. Jones, &amp; C.S. Carter (2003). Overactive a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itoring in obsessive-compulsive disorder.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Psychological Science, 14,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347-35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ADE9-EFD1-497B-BF43-AEE166DC1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ssociat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nscious awareness becomes separated (dissociated) from previous memories, thoughts, and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573360" y="3505320"/>
            <a:ext cx="19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1447920" y="415296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ving a sense of being un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447920" y="468648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ing separated from 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1461960" y="5205240"/>
            <a:ext cx="69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atching yourself as if in a mov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95D0-49EB-4E52-8FD6-39E1F1DEE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sociative Identity Disorder (DI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a disorder in which a person exhibits two or more distinct and alternating personalities, formerly called multiple personality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" descr="MyersPsy8e_16UN15"/>
          <p:cNvPicPr/>
          <p:nvPr/>
        </p:nvPicPr>
        <p:blipFill>
          <a:blip r:embed="rId1"/>
          <a:stretch/>
        </p:blipFill>
        <p:spPr>
          <a:xfrm>
            <a:off x="2500200" y="3246480"/>
            <a:ext cx="4114800" cy="2925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3196800" y="619452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hris Sizemore (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 rot="5400000">
            <a:off x="5850000" y="5182920"/>
            <a:ext cx="17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is Bernstein/ Gamma Lia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5EAF-9E49-4342-BAA0-6246CD8B6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Anxiety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 Disorder and Panic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bsessive-Compulsiv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st-Traumatic Stress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xiety Disorder 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C73D-A2F3-48E2-B5D2-8AD1E3693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D Cr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ritics argue that the diagnosis of DID increased in the lat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century. DID has not been found in other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685960" y="3505320"/>
            <a:ext cx="3741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’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447920" y="4152960"/>
            <a:ext cx="69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ole-playing by people open to a therapist’s sugg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447920" y="5295960"/>
            <a:ext cx="62481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arned response that reinforces reductions i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AB75-8138-41DD-8DFF-0BC97EE2A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0840" y="1595160"/>
            <a:ext cx="59385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Mood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ood Disorder 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Schizophr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 of Schizophr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btypes of Schizophr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191B-C48E-4DB7-831E-BF0ADD969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0840" y="1595160"/>
            <a:ext cx="59385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Schizophr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Schizophr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ersonality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5D2E-1095-4BE2-A175-F840184CD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 felt the need to clean my room … spent four to five hour at it … At the time I loved it but then didn't want to do it any more, but could not stop … The clothes hung … two fingers apart …I touched my bedroom wall before leaving the house … I had constant anxiety … I thought I might be n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4038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Marc, diagnos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from Summers, 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573B-C56E-433C-ACAA-F2F2BDB5F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ople are fascinated by the exceptional, the unusual, and the abnormal. This fascination may be caused by two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71400" y="35053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uring various moments we feel, think, and act like an abnormal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sychological disorders may bring unexplained physical symptoms, irrational fears, and suicidal thou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8E50-77D8-4D68-A6FF-CED2C4ABC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study the abnormal is the best way of understanding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71400" y="35053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re are 450 million people suffering from psychological disorders (WHO, 20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pression and schizophrenia exist in all cultures of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85800" y="257184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William James (1842-19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</dc:creator>
  <dc:description/>
  <dc:language>en-US</dc:language>
  <cp:lastModifiedBy>dpark</cp:lastModifiedBy>
  <dcterms:modified xsi:type="dcterms:W3CDTF">2010-04-29T18:20:02Z</dcterms:modified>
  <cp:revision>1242</cp:revision>
  <dc:subject/>
  <dc:title>Memory</dc:title>
</cp:coreProperties>
</file>